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756-9B7C-48B4-BA41-7F4ABD2C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B6E-51F4-4D3C-AF3A-2DAC024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C6B-9DDE-44DB-B9E6-E73BCF1D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CE4-F614-4DAB-B74B-69A2D066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E33-5EF3-4428-B03B-B6829B0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C59-9422-4249-8F63-34F0B13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1DC-C1D8-4282-B4E7-8E664DA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0E2-8FCD-4D70-B398-38A2738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39E-DE30-46D6-B634-F8B3D5C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EAF-73E4-4BFC-AEB6-3AECBF8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43E-7299-4EDC-85F6-76261D5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C31-51C6-445D-8939-E4D19C1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8B7-EEF2-4FB2-B13C-E3B3BB91874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461440" y="83628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cc00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48680" y="3645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248680" y="596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8680" y="1268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3213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47640" y="620640"/>
            <a:ext cx="5696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32000" y="2492280"/>
            <a:ext cx="295272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ff"/>
                </a:solidFill>
                <a:latin typeface="Candara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83200">
            <a:off x="313920" y="1682640"/>
            <a:ext cx="3024360" cy="1079640"/>
          </a:xfrm>
          <a:prstGeom prst="rightArrow">
            <a:avLst>
              <a:gd name="adj1" fmla="val 50000"/>
              <a:gd name="adj2" fmla="val 70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1032400">
            <a:off x="466560" y="3317400"/>
            <a:ext cx="2876760" cy="1079640"/>
          </a:xfrm>
          <a:prstGeom prst="rightArrow">
            <a:avLst>
              <a:gd name="adj1" fmla="val 50000"/>
              <a:gd name="adj2" fmla="val 66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iglioramen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ezzi 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71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156360" y="249228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80000" y="981000"/>
            <a:ext cx="1800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1052640"/>
            <a:ext cx="936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404640"/>
            <a:ext cx="1656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2133720"/>
            <a:ext cx="1835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Libera circo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60280"/>
            <a:ext cx="147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Stili di V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Più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3645000"/>
            <a:ext cx="190800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020000" y="4508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445000"/>
            <a:ext cx="208908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Immigrazioni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0Z</dcterms:created>
  <dc:creator>studente</dc:creator>
  <dc:description/>
  <dc:language>en-US</dc:language>
  <cp:lastModifiedBy>studente</cp:lastModifiedBy>
  <dcterms:modified xsi:type="dcterms:W3CDTF">2016-11-21T10:32:08Z</dcterms:modified>
  <cp:revision>6</cp:revision>
  <dc:subject/>
  <dc:title>Diapositiva 1</dc:title>
</cp:coreProperties>
</file>